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A24-4008-4979-A35B-FBBDD4B4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5C5-6A0F-4C93-8664-8AE99963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A51-549E-4EC3-8729-2801A329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C5C-241E-4FC8-AE97-0272B629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572-5828-4463-A601-DFEF0BCD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696-A03F-4E18-8404-E63FEE8E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5A6-F995-473F-A25C-23476C6B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55B-9675-4A32-8E90-67A953A9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858-E5EB-4FCC-B1C3-BB2CA9C2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958-927B-4863-B48F-66AD0005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68E-5E30-4E16-904D-B1397AB2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7B5-70E6-46F2-A842-246F8255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DBC4-52DA-4B5B-8CB6-AF2E550D7C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dobe Garamond Pro Bold"/>
              </a:rPr>
              <a:t>The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elvira-page-4"/>
          <p:cNvPicPr/>
          <p:nvPr/>
        </p:nvPicPr>
        <p:blipFill>
          <a:blip r:embed="rId1"/>
          <a:stretch/>
        </p:blipFill>
        <p:spPr>
          <a:xfrm>
            <a:off x="4724280" y="228600"/>
            <a:ext cx="4084920" cy="632448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936720" y="762120"/>
            <a:ext cx="325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ice how the artist uses the size of the individual box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(and how they overlap in places)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create visual interes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asm122p18lge"/>
          <p:cNvPicPr/>
          <p:nvPr/>
        </p:nvPicPr>
        <p:blipFill>
          <a:blip r:embed="rId1"/>
          <a:stretch/>
        </p:blipFill>
        <p:spPr>
          <a:xfrm>
            <a:off x="380880" y="304920"/>
            <a:ext cx="6400800" cy="6332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010280" y="533520"/>
            <a:ext cx="17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ice how the artist creates a sense of mo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indian_layout%20copy"/>
          <p:cNvPicPr/>
          <p:nvPr/>
        </p:nvPicPr>
        <p:blipFill>
          <a:blip r:embed="rId1"/>
          <a:stretch/>
        </p:blipFill>
        <p:spPr>
          <a:xfrm>
            <a:off x="228600" y="228600"/>
            <a:ext cx="4362480" cy="6172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5397480" y="603360"/>
            <a:ext cx="313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re the artist makes some figures large and close-up and some figures small to change the viewer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derstanding of the spac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prodromal_sample"/>
          <p:cNvPicPr/>
          <p:nvPr/>
        </p:nvPicPr>
        <p:blipFill>
          <a:blip r:embed="rId1"/>
          <a:stretch/>
        </p:blipFill>
        <p:spPr>
          <a:xfrm>
            <a:off x="4800600" y="609480"/>
            <a:ext cx="4075200" cy="5639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968400" y="873000"/>
            <a:ext cx="337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artist uses a different type compositional strateg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inkscape-0_45-comics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4867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1523880" y="5410080"/>
            <a:ext cx="61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artist tries a more experimental approach. Does it work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400800" cy="4726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380880" y="5105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rst you’ll need to figure out what your story is about.  Making a quick “story board” will help.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is is not what your comic will look like – just the basic stor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4684680" cy="5943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6019920" y="380880"/>
            <a:ext cx="243828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n you need to start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“compose”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your panel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Think about making every area of the page visually interestin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Start by lightly sketching out where things will g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460404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6095880" y="6858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Then start fleshing out the figur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095880" y="2895480"/>
            <a:ext cx="266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te: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If you are going to include speech bubbles you shoud put them in before fleshing out your charact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4718160" cy="6477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019920" y="9907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Now it is time for the details and shadin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layoutsuf2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inishef1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telmanbats14"/>
          <p:cNvPicPr/>
          <p:nvPr/>
        </p:nvPicPr>
        <p:blipFill>
          <a:blip r:embed="rId1"/>
          <a:stretch/>
        </p:blipFill>
        <p:spPr>
          <a:xfrm>
            <a:off x="1066680" y="457200"/>
            <a:ext cx="3956040" cy="6019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5715000" y="60336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quint at this and notice how the artist uses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values”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o create visual interest all over the pag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5_Bradley"/>
          <p:cNvPicPr/>
          <p:nvPr/>
        </p:nvPicPr>
        <p:blipFill>
          <a:blip r:embed="rId1"/>
          <a:stretch/>
        </p:blipFill>
        <p:spPr>
          <a:xfrm>
            <a:off x="228600" y="304920"/>
            <a:ext cx="4165560" cy="624816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5032440" y="682560"/>
            <a:ext cx="334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ice how the artist uses the placement of the speech bubbles to help make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ositio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isually dynami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9:11:09Z</dcterms:created>
  <dc:creator>ASB</dc:creator>
  <dc:description/>
  <dc:language>en-US</dc:language>
  <cp:lastModifiedBy>Brian Reverman [STAFF]</cp:lastModifiedBy>
  <dcterms:modified xsi:type="dcterms:W3CDTF">2012-10-08T01:54:43Z</dcterms:modified>
  <cp:revision>15</cp:revision>
  <dc:subject/>
  <dc:title>The layout</dc:title>
</cp:coreProperties>
</file>